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B83-CC53-4F36-BF6D-7CD48466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30C-B223-4323-92D0-E0FECCB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DA5-FFAE-428D-B888-5D4B1CE5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FB5-5D9B-475A-AB0B-E6C5D024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B2F-B96F-4488-9979-96796605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92C-C756-408C-BD6A-28C93A26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51E-9A49-41CC-A41E-BE9396E7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72C-624D-44F0-A285-B3F25F25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205-C58B-4E89-833E-8720B294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2B5-98EF-4968-B54B-24E8FEB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426-1B23-4D06-B325-074F2FBB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314-4030-4FA4-AC05-1C949D3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29F7-61B3-40BC-A6D5-077EC4391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504960" cy="2781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76720" y="838080"/>
            <a:ext cx="2968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for Romeo &amp; Juliet is the balcony scene. I like this set mainly because of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97480" y="228600"/>
            <a:ext cx="2694240" cy="3429000"/>
          </a:xfrm>
          <a:prstGeom prst="rect">
            <a:avLst/>
          </a:prstGeom>
          <a:ln w="57240">
            <a:solidFill>
              <a:srgbClr val="cc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505320" y="3124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14200">
            <a:off x="6946920" y="3741480"/>
            <a:ext cx="2438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is also another balcony scene. I like this one because it looks more like the time period it was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871720" cy="403848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47" name=""/>
          <p:cNvSpPr/>
          <p:nvPr/>
        </p:nvSpPr>
        <p:spPr>
          <a:xfrm rot="20978400">
            <a:off x="74880" y="4629960"/>
            <a:ext cx="3047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is a set design for the balcony scene. I like that it is more realistic than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6477120"/>
            <a:ext cx="19908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By: Dailey Midget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43:47Z</dcterms:created>
  <dc:creator>dcsuser</dc:creator>
  <dc:description/>
  <dc:language>en-US</dc:language>
  <cp:lastModifiedBy>dcsuser</cp:lastModifiedBy>
  <dcterms:modified xsi:type="dcterms:W3CDTF">2010-04-15T14:07:52Z</dcterms:modified>
  <cp:revision>2</cp:revision>
  <dc:subject/>
  <dc:title>Slide 1</dc:title>
</cp:coreProperties>
</file>