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894-9126-463A-8356-69A8BAE7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A91-858E-47A2-A97F-B20F37EA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931-BC27-4284-B871-755584CB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8DD4-BED9-4200-B579-617BBBF2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BDA-9023-4BCF-AE4F-4EA022B6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02B-8D8E-4DED-B62B-B6B9133C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76E-F58B-4861-9D0F-95D4AAD5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27A-6B35-4355-BB65-AD303D1C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C9D-D891-4E06-BE9F-A894876E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E2B-6843-4BDB-AE85-471CACD8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F5D-CE92-4B52-BD61-D416DA97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66F-D8F4-4D4F-B0C3-BDBA9B4A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0B04-6433-4F09-9AD7-B225FD66C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504960" cy="2781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276720" y="838080"/>
            <a:ext cx="2968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for Romeo &amp; Juliet is the balcony scene. I like this set mainly because of the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97480" y="228600"/>
            <a:ext cx="2694240" cy="3429000"/>
          </a:xfrm>
          <a:prstGeom prst="rect">
            <a:avLst/>
          </a:prstGeom>
          <a:ln w="57240">
            <a:solidFill>
              <a:srgbClr val="cc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505320" y="3124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14200">
            <a:off x="6946920" y="3741480"/>
            <a:ext cx="2438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is also another balcony scene. I like this one because it looks more like the time period it was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871720" cy="403848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sp>
        <p:nvSpPr>
          <p:cNvPr id="47" name=""/>
          <p:cNvSpPr/>
          <p:nvPr/>
        </p:nvSpPr>
        <p:spPr>
          <a:xfrm rot="20978400">
            <a:off x="74880" y="4629960"/>
            <a:ext cx="3047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is a set design for the balcony scene. I like that it is more realistic than the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6477120"/>
            <a:ext cx="19908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By: Dailey Midget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43:47Z</dcterms:created>
  <dc:creator>dcsuser</dc:creator>
  <dc:description/>
  <dc:language>en-US</dc:language>
  <cp:lastModifiedBy>dcsuser</cp:lastModifiedBy>
  <dcterms:modified xsi:type="dcterms:W3CDTF">2010-04-15T14:07:52Z</dcterms:modified>
  <cp:revision>2</cp:revision>
  <dc:subject/>
  <dc:title>Slide 1</dc:title>
</cp:coreProperties>
</file>