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7B4-897F-4F12-96CC-12346C6A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50F-F2CA-4DC2-8A21-FF2F20A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1E5-7039-4B6C-825A-363EC014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CB6-5891-4652-9010-8E729B33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4C3-1C50-4AF8-A958-E725B76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923-190F-439C-9B63-75493AD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8FE-94C5-476F-9A87-17C0BC98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4BE-A3D6-45F5-A796-F99AA013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CE6-AA00-4A30-AADF-09ECD96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366-03AC-43F8-8C81-4108176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12D-82E5-40C9-AE70-2CEBB14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B41-141B-483A-9D81-56F9480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381-B440-4F43-A5EC-C572315B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504960" cy="2781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838080"/>
            <a:ext cx="296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for Romeo &amp; Juliet is the balcony scene. I like this set mainly because of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97480" y="228600"/>
            <a:ext cx="2694240" cy="3429000"/>
          </a:xfrm>
          <a:prstGeom prst="rect">
            <a:avLst/>
          </a:prstGeom>
          <a:ln w="57240">
            <a:solidFill>
              <a:srgbClr val="cc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05320" y="3124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14200">
            <a:off x="6946920" y="3741480"/>
            <a:ext cx="2438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is also another balcony scene. I like this one because it looks more like the time period it wa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871720" cy="4038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47" name=""/>
          <p:cNvSpPr/>
          <p:nvPr/>
        </p:nvSpPr>
        <p:spPr>
          <a:xfrm rot="20978400">
            <a:off x="74880" y="4629960"/>
            <a:ext cx="304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is a set design for the balcony scene. I like that it is more realistic than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6477120"/>
            <a:ext cx="1990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By: Dailey Midget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43:47Z</dcterms:created>
  <dc:creator>dcsuser</dc:creator>
  <dc:description/>
  <dc:language>en-US</dc:language>
  <cp:lastModifiedBy>dcsuser</cp:lastModifiedBy>
  <dcterms:modified xsi:type="dcterms:W3CDTF">2010-04-15T14:07:52Z</dcterms:modified>
  <cp:revision>2</cp:revision>
  <dc:subject/>
  <dc:title>Slide 1</dc:title>
</cp:coreProperties>
</file>