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75B8-9111-45CE-A2A2-A3A10390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E4C-6724-459B-9EBA-3B7DD679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B68-6E7F-47F8-8EAE-4DA1510A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2F0-618C-41F9-9812-F522E972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FC9-EE74-42FF-A020-B217FE6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679-B23F-4129-8E18-68A0A37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FDD-D7E1-45A7-990E-66A576D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44EF-C79B-4BD0-BA13-D4954F09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9BE-4AAB-482D-898D-B1246ED8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635-4A7F-4257-AC53-7395C71A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FA4-CD63-4E28-B144-8CED427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D40-CD59-423E-9241-1F68498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487D-B228-4886-A710-01F754AE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8120" y="3352680"/>
            <a:ext cx="3504960" cy="2781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276720" y="838080"/>
            <a:ext cx="2968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for Romeo &amp; Juliet is the balcony scene. I like this set mainly because of the col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97480" y="228600"/>
            <a:ext cx="2694240" cy="3429000"/>
          </a:xfrm>
          <a:prstGeom prst="rect">
            <a:avLst/>
          </a:prstGeom>
          <a:ln w="57240">
            <a:solidFill>
              <a:srgbClr val="cc3399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505320" y="3124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14200">
            <a:off x="6946920" y="3741480"/>
            <a:ext cx="2438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set design is also another balcony scene. I like this one because it looks more like the time period it was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871720" cy="4038480"/>
          </a:xfrm>
          <a:prstGeom prst="rect">
            <a:avLst/>
          </a:prstGeom>
          <a:ln w="57240">
            <a:solidFill>
              <a:srgbClr val="669900"/>
            </a:solidFill>
            <a:miter/>
          </a:ln>
        </p:spPr>
      </p:pic>
      <p:sp>
        <p:nvSpPr>
          <p:cNvPr id="47" name=""/>
          <p:cNvSpPr/>
          <p:nvPr/>
        </p:nvSpPr>
        <p:spPr>
          <a:xfrm rot="20978400">
            <a:off x="74880" y="4629960"/>
            <a:ext cx="3047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ristina"/>
              </a:rPr>
              <a:t>This is a set design for the balcony scene. I like that it is more realistic than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6477120"/>
            <a:ext cx="19908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By: Dailey Midget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43:47Z</dcterms:created>
  <dc:creator>dcsuser</dc:creator>
  <dc:description/>
  <dc:language>en-US</dc:language>
  <cp:lastModifiedBy>dcsuser</cp:lastModifiedBy>
  <dcterms:modified xsi:type="dcterms:W3CDTF">2010-04-15T14:07:52Z</dcterms:modified>
  <cp:revision>2</cp:revision>
  <dc:subject/>
  <dc:title>Slide 1</dc:title>
</cp:coreProperties>
</file>