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FFC-E649-4203-B542-015AFFC7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82D-684A-44CA-98D5-0E4EC076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3DC-CFD7-4A70-8728-8A00806D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26A-4A07-4A3B-9193-58CB1366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843-B0BD-4876-BBE5-15E4C073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231-A9F0-4F8C-B3C2-8E24DD38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07A-A5A5-4049-934C-BC502403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DFB-1CDC-43A2-8668-AFCA543E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CCE-E661-45E7-B5EC-307FC15D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277-EA18-468F-98F3-5C577E5C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C23-EDC5-40C3-AC2C-7CAFAFB8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F63-6A45-4C3C-BDEE-B6E6D99E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79E3-88F7-4C72-916F-F3B24736E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3504960" cy="2781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276720" y="838080"/>
            <a:ext cx="2968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set design for Romeo &amp; Juliet is the balcony scene. I like this set mainly because of the col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97480" y="228600"/>
            <a:ext cx="2694240" cy="3429000"/>
          </a:xfrm>
          <a:prstGeom prst="rect">
            <a:avLst/>
          </a:prstGeom>
          <a:ln w="57240">
            <a:solidFill>
              <a:srgbClr val="cc33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505320" y="31240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614200">
            <a:off x="6946920" y="3741480"/>
            <a:ext cx="2438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set design is also another balcony scene. I like this one because it looks more like the time period it was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2871720" cy="403848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sp>
        <p:nvSpPr>
          <p:cNvPr id="47" name=""/>
          <p:cNvSpPr/>
          <p:nvPr/>
        </p:nvSpPr>
        <p:spPr>
          <a:xfrm rot="20978400">
            <a:off x="74880" y="4629960"/>
            <a:ext cx="3047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is a set design for the balcony scene. I like that it is more realistic than the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6477120"/>
            <a:ext cx="199080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</a:rPr>
              <a:t>By: Dailey Midget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43:47Z</dcterms:created>
  <dc:creator>dcsuser</dc:creator>
  <dc:description/>
  <dc:language>en-US</dc:language>
  <cp:lastModifiedBy>dcsuser</cp:lastModifiedBy>
  <dcterms:modified xsi:type="dcterms:W3CDTF">2010-04-15T14:07:52Z</dcterms:modified>
  <cp:revision>2</cp:revision>
  <dc:subject/>
  <dc:title>Slide 1</dc:title>
</cp:coreProperties>
</file>